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9724-EEA7-4CC3-BB37-E6082712A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4400-30F2-40EB-95F4-2EBD6112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60A2-D269-48DE-8141-B1C4C47C0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9F48-E9FE-4F6C-B2D7-971A8364B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5B82-DBEB-4C70-A8B3-4F06A3DDE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269F-2C5C-42A6-B0ED-E8D2BFB5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66EA-EA2F-4E23-9546-725F9948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AEBE-54CD-4AEB-A39F-D66860A2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3F61-9408-463B-B4A7-7AE70A40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6ED9-FD26-4B86-988D-5A122129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B079-7535-475A-865E-184BECB1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D9FE-7B21-487F-82BB-2F7894C4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D8CA-F5EB-4013-A655-230CFC6D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3311-1BEE-40B5-8024-BCA1AFDE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7CA6-3B78-4347-B3BF-F897A5D6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4CE6-8E83-4D1D-BCE5-95DDA3C9E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2B42-2D95-4685-81C9-98F873FDE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74E5-CEE2-4C93-9C75-D5FA8649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CBFD-2846-4DB1-8D65-237A5193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611F-818F-478D-BDFF-9EE72638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9EEA-0D0C-4D40-893B-7450BD98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16D0-B1B7-49EA-8298-5FE8EFE2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3896-CF5B-44AC-B332-61AA38EF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A82A-ED2B-4D83-B3A4-33069E3D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30B5-BE65-4CC5-9AD8-5776B883D5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B0F8-C4A9-4839-8728-7A8A8FA0787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06360" y="4335480"/>
            <a:ext cx="7315200" cy="14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3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مايو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70720" y="2741760"/>
            <a:ext cx="542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ب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رنامج الأعداد لأمتحان المتوس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ادة المراج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038240" y="407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ج</a:t>
            </a:r>
            <a:r>
              <a:rPr b="0" lang="ar-SA" sz="19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عية المحاسبيين والمراجعيين المصرية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أنشطة المرتبطة بالبي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2209680"/>
            <a:ext cx="374508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الحدود الأئتمان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2819520"/>
            <a:ext cx="29066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3470400"/>
            <a:ext cx="3124080" cy="580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4724280"/>
            <a:ext cx="31244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تج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4019400"/>
            <a:ext cx="281952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حسا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5391000"/>
            <a:ext cx="28958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يون المعدو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05720" y="1143000"/>
            <a:ext cx="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1523880"/>
            <a:ext cx="359280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ب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فصل بين الأختصاصات المتعارض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33920" y="1523880"/>
            <a:ext cx="22971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دارة 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523880"/>
            <a:ext cx="20685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ب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143000"/>
            <a:ext cx="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29400" y="1523880"/>
            <a:ext cx="2144880" cy="703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قبول 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2430360"/>
            <a:ext cx="2112840" cy="3735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ستندات مسلسلة لضمان تسجيل كل طلبات العملا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حدود الأئتمان بواسطة ادارة الأئتما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سعر البيع والخصومات الخاصة بواسطة شخص مسئول فى ادارة البيع وليس فى ادارة الحساب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2438280"/>
            <a:ext cx="2112840" cy="2975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ستندات خروج بضاعة اواذون شحن مسلسلة لكل البضائع التى يتم خروجها من المنشأ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م ذلك عن طريق ادارة الشحن او بواسطة حارس البوابة وليس بواسطة عضو من ادارة الحساب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2514600"/>
            <a:ext cx="2112840" cy="4161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فواتير مسلسلة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يتم تحريرها بواسطة ادارة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مراجعة للتأكد من أنه قد تم تحرير فواتير لكل البضائع المبينة بأذون الشح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رقابة صارمة على اشعارات الخصم لضمان اصدارها بأعتماد مناسب مقابل اذون ارتجا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1797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تحديد حدود ائتمان لكل عمي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8600" y="222264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طلبات العملاء مع حساباتهم والحصول على موافقة ادارة الأئتمان فى حالة التجاوز اوالعميل الجديد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78600" y="3228840"/>
            <a:ext cx="29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طلبات بيع مسلسلة لتسجيل طلبات العمي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5880" y="38386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ماد كل طلبات البيع قبل شحن البضاع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452448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طلبات البيع لأستخراج أذون شحن لخروج البضاع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5286240"/>
            <a:ext cx="29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خروج أى بضاعة بدون اذن شحن معتم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06800" y="182556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اذون شحن البضاعة مسلسلة رقميا وان يحتفظ بسجل لها للمطابقة مع فواتير البيع وطلبات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06800" y="304488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أعتماد اذون شحن البضائع عند خروج البضائع وان يتم مراجعتها دوريا للتأكد من اكتمالها وان يتم استخراج فواتير لكل منه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1430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1905120"/>
            <a:ext cx="29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ماد فواتير البيع من الشخص المسئول ومراجعتها مع الطلب الأصلى المعتمد واذن الشحن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3124080"/>
            <a:ext cx="29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ثبات كل الفواتير واشعارات الخصم فى سجلات يومية المبيعات واستاذ مساعد العملاء واستاذ مراقبة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42670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دقة الحسابية لفواتير البيع واشعارات الخصم بواسطة شخص مستقل عن معد الفواتير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51814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كل الفواتير واشعارات الخصم مسلسة رقميا, وان يتم مراجعة التسلسل بصفة منظم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1430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182880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تماد اشعارات الخصم من شخص مشتقل عن اعمال الشحن او القيد فى دفاتر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280" y="274320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لأحتفاظ بالفواتير الملغا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320040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إلغاء مستندات الشحن المتعلقة بأى فاتورة يتم الغائها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38098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عتمد الفواتير الملغاة او البضاعة المجانية من الشخص المسئو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47242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تم فصل الأنواع المختلفة من المبيعات وكذا ضريبة المبيعات فى كل فاتورة بي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تج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1430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يون المعدو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5000" y="1828800"/>
            <a:ext cx="29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تم اعتماد اعدام الديون المعدومة كتابة وان تتم التسوية فى استاذ حساب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2743200"/>
            <a:ext cx="2989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تماد اقامة اى دعوى قضائية او اعدام احد الديون بواسطة شخص مسئول وان يكون مستقلا عن عمليات استلام النقد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19920" y="1828800"/>
            <a:ext cx="29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فحص البضائع التى يتم اعادتها من العملاء وتحديد العيوب الواضحة بها عند استلامها واثباتها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78600" y="2743200"/>
            <a:ext cx="29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داد اشعار خصم لجميع البضائع التى يتم اعادتها من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1828800"/>
            <a:ext cx="2989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ستكمال حساب مراقبة استاذ العملاء بصفة منتظمة وان يتم مراجعته مع رصيد كل نوع من ارصدة استاذ العملاء المساعد بواسطة شخص مستق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457200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متابعة الديون المتأخرة فى السداد وإعداد قائمة بأعمار الديون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327672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حسابات العملاء مستقلة عن اعمال الشحن او استلام النقد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391464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رسال كشوف حساب الى العملاء بصفة دور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525780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رسال خطابات للعملاء لتحصيل الديون المتأخر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ختبارات 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01000" y="15145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447920"/>
            <a:ext cx="75438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راء اختبار للتاكد من تسلسل الفواتير واشعارات الخصم واذون الشحن وطلبات العملا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2209680"/>
            <a:ext cx="7467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حقق من وجود اعتماد مناسب والتأكد من وجود التوقيع المناسب والتحقق من انه يتم تطبيق الرقابة مثل مراجعة دقة التسعير وحدود الأئتمان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01000" y="24289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3124080"/>
            <a:ext cx="7467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حث عن أدلة لمراجعة الدقة المحاسبية للفواتير وأشعارات الخصم و ضريبة المبيعات وعادة مايتم عن طريق وضع ختم على الفاتورة يتطلب توقيع المراجع والتاكد من تطبيق الرقابة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01000" y="32767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96252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ذون الشحن واذون ارتجاع البضائع للتأكد من مطابقتها مع الفواتير واشعارات الخصم والعكس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01000" y="403848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472428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انه قد تم اجراء تسويات حسابات المراقبة وانه قد تم مراجعتها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541008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تطبيق الرقابة على اجماليات كل مجموعة وذلك بالبحث عن التوقيعات وتتبع المجموعات من المدخلات الى المخرجات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01000" y="480060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001000" y="55627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جراءات التحقق من 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924680" y="5867280"/>
            <a:ext cx="838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كتما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24480" y="1371600"/>
            <a:ext cx="228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جلات المحاسب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4480" y="1905120"/>
            <a:ext cx="2362320" cy="287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دقة الحسابية لدفتر يومية المبيعات ودفتر مرتجعات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ترحيل كل فاتورة الى الأستاذ العام وحساب المراق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قيود اليومية فى دفتر يومية المبيعات ودفتر مرتجعات المبيع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53080" y="5867280"/>
            <a:ext cx="1219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جود/الحدو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10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ق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ط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5867280"/>
            <a:ext cx="762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ي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76520" y="5867280"/>
            <a:ext cx="1218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قوق الألتزام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5867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والأفصا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1371600"/>
            <a:ext cx="24382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واتير المبيعات واشعارات الخص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1905120"/>
            <a:ext cx="2438280" cy="565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تسلسل الرقمى للفواتير والسؤال عن الفواتير الغير موجودة وفحص الفواتير الملغا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صور فواتير البيع واشعارت الخصم مع دفتر يومية المبيعات وحسابات استاذ العملاء ومراجعة تحليل المبيعات فى دفتر يومية المبيعات واعتماد اشعارات الخص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الأسعار المدرجة فى الفواتير مع قائمة الأسعار المعتمدةوحدود الأئتمان للعمي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دقة الحسابية لفواتير واشعارات الخص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شعارات الخصم خاصة البنود الكبيرة او الغير عاد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جلات المخاز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1905120"/>
            <a:ext cx="2438280" cy="39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سيتم تغطيتها تفصيلا فى القسم الثانى من هذا الفصل والتالى يستحق عرضه هن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طابقة اذون شحن البضاعة وسجلات البضاعة المنصرفة مع صور فواتير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حركة البضائع المنصرفة بداية من الفاتورة الى اذون الشحن الى سجلات المخازن والعكس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البضائع المرتجعة من مستندات الرتجاع الى سجلات المخازن واشعارات الخص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جراءات التحقق من 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4680" y="5867280"/>
            <a:ext cx="838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كتما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24480" y="1371600"/>
            <a:ext cx="228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سابات المراقب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1905120"/>
            <a:ext cx="23623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ختبار تسوية حسابات المراقبة بالرجوع الى اصول المستندات ( مثل فواتير البيع , سجلات المرتجعات, والنقدية) والتأكد من اجراء التسويات المناس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53080" y="5867280"/>
            <a:ext cx="1219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جود/الحدو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0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ق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67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ط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00400" y="5867280"/>
            <a:ext cx="762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ي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76520" y="5867280"/>
            <a:ext cx="1218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قوق الألتزام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5867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والأفصا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حليل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1905120"/>
            <a:ext cx="2438280" cy="469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لب فى مستوى المبيع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مستويات المبيعات خلال العام على اساس شهرى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ذات الفترة من العام الساب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اخر شهر فى العام مع اول شهر فى العام التالى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تشير التقلبات من شهرلأخر الى سوء تبويب المبيعات  بين الأشهر  اوحذف مبيعات اووجود مبيعات ذات قيمة عال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ى حالة وجودتقلبات غير مبررة يجب اجراء فحص مستند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فصا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520" y="1905120"/>
            <a:ext cx="24382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ظهار المبيعات طبقا لنوعية النشاط والموقع الجغرافى للأسوا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69880" y="603360"/>
            <a:ext cx="7777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en-GB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حادى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عش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هداف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جراء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ختبار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رق</a:t>
            </a: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داخ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عض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جراء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تحق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واجراءات واختبارات الرقابة الداخلية وبعض اجراءات التحق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76760" y="1295280"/>
            <a:ext cx="22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ناول هذا الفص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18240" y="1600200"/>
            <a:ext cx="348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هداف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جراءات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ختبارات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راءات التحق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حلي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81400" y="358128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لدورات المحاسبية  الت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36920" y="3733920"/>
            <a:ext cx="2936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بي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شتر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ور والمرتب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ق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صول طويلة الأج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واجراءات واختبارات الرقابة الداخلية وبعض اجراءات التحق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05640" y="129528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هد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2057400"/>
            <a:ext cx="6553440" cy="113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فهم المبادئ العامة للأختبارات فى كل دورة </a:t>
            </a:r>
            <a:r>
              <a:rPr b="0" lang="ar-SA" sz="1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لا من حفظ قوائم طويلة منها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ماذا نحتاج الى رقابة داخلية على المبيعات والمشتريات 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28560" y="1447920"/>
            <a:ext cx="74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اذا نحتاج الى رقابة داخلية على المبيعات والمشتريات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437760" y="2057400"/>
            <a:ext cx="107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بب المخاطر التى قد تحدث فى حالة عدم وجود مثل هذه الرقابة على سبيل المث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556272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مثلة على مخاطر عدم وجود رقابة على المبيعات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72400" y="1371600"/>
            <a:ext cx="106668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رقيم اوامر البي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16002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680" y="1295280"/>
            <a:ext cx="2285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دانها وعدم تنفيذ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تكرار تنفيذ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768600" y="1295280"/>
            <a:ext cx="53172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ضاء العمي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ضياع فرصة تحقيق ايرا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سداد قيمة المشتريات التى تكرر استلامهم ل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160020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772400" y="2514600"/>
            <a:ext cx="10666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مطابقة اذون الشحن مع الفواتي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2819520"/>
            <a:ext cx="838440" cy="304560"/>
          </a:xfrm>
          <a:prstGeom prst="leftArrow">
            <a:avLst>
              <a:gd name="adj1" fmla="val 50000"/>
              <a:gd name="adj2" fmla="val 688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71040" y="2514600"/>
            <a:ext cx="28692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لا نستطيع ارسال فواتير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ى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3124080"/>
            <a:ext cx="1962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بضائع لم يستلمها العميل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2577960"/>
            <a:ext cx="365760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ضاء العميل نتيجة ارسال فواتير خاطئة وتحمل تكاليف ادارية لاداعى ل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حصيل قيم البضاعة اوالخدمة نتيجة عدم اصدار فاتور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29718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3962520"/>
            <a:ext cx="12952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جميع الفواتير ومراجعتها حسابي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05720" y="42670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4114800"/>
            <a:ext cx="18860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دان الفواتير اوتسجيلها بقيمتها الخاطئة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4114800"/>
            <a:ext cx="3657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وجود ارصدة دائنة للعملا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علومات المالية غير صحيح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42670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0120" y="5334120"/>
            <a:ext cx="12952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الأحتفاظ بدفتر استاذ مساعد للعملا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56386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43360" y="5337000"/>
            <a:ext cx="18860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ظهور اجمالى المديونية دون تحديد رصيد كل عميل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5410080"/>
            <a:ext cx="36576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عوبة تتبع الأرصدة التى مضى تاريخ استحقاق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عوبة المطابقة مع العميل فى حالة عدم الأتفا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5562720"/>
            <a:ext cx="838440" cy="304560"/>
          </a:xfrm>
          <a:prstGeom prst="leftArrow">
            <a:avLst>
              <a:gd name="adj1" fmla="val 50000"/>
              <a:gd name="adj2" fmla="val 688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الرقابة الداخلية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1905120"/>
            <a:ext cx="592956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جميع المعاملات المعتمدة قد تم تسجيلها فى الوقت الصحيح وبالقيم الصحيحة فى الحسابات الصحيحة وفى الفترة المحاسبية الخاصة ب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من له حق التعامل مع الأصول هو الذى يقوم بذل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ه قد تم مقارنة ماتم تسجيله بالدفاتر مع الموجود فعل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وجه التشابه بين الأجراءات الرقابية على المبيعات والمشتريات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752480"/>
            <a:ext cx="8305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تندات مسلسلة مع مرجعة لاحقة للتسلسل لضمان الأكتما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259092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المجموعات واجماليات رقابية اخرى فى مرحلة الأدخال مع مراجعة لاحقة للمخرجات للتأكد من الأكتمال والد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358128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حسابات المراقبة والتاكد من مطابقتها مع دفتر الأستاذ العام والأستاذ المساع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453060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سلطات اعتماد مناسبة عن طريق توقيع الأشخاص المسئولين لانشاء وادخال وتوزيع المستند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5181480"/>
            <a:ext cx="809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تشمل اختبارات الرقابة الحصول على ادلة أن الأجراءات السابق الأشارة اليها قد تم تطبيقها وفى العادة يبحث المراجع عن دليل يوضح ان اجراء الرقابة قد تم تنفيذه مثل التوقي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خاطر الرئيسية المتعلقة بدورتى  المبيعات والمشتريات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752480"/>
            <a:ext cx="830556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شل دورة المبيعات ودورة المشتريات فى تحقيق اهداف المنشأة والتى قد ينتج عنها خسائر مالية  أو تاثير سلبى على سمعة المنشأ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259092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راء بضائع غالية الثمن اوغير مناسبة مما يؤدى الى الأنحراف عن الموازنة التقديرية و تحقيق خسائر 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58128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خفاق فى شراء بضائع او خدمات فى الوقت المناسب والذى قد يؤدى الى عدم الأنتهاء فى المواعيد المطلوب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453060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دوث مشتريات اوعمليات بيع غير سليمة مما قد يؤدى الى خسائر مالية أو حدوث تأثير سلبى على سمعة المنشأ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16:06:08Z</dcterms:created>
  <dc:creator>agamal</dc:creator>
  <dc:description/>
  <dc:language>en-US</dc:language>
  <cp:lastModifiedBy>agamal</cp:lastModifiedBy>
  <dcterms:modified xsi:type="dcterms:W3CDTF">2003-05-02T23:10:34Z</dcterms:modified>
  <cp:revision>8</cp:revision>
  <dc:subject/>
  <dc:title>أهداف واجراءات واختبارات الرقابة الداخلية وبعض اجراءات التحقق</dc:title>
</cp:coreProperties>
</file>